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A15A0-53A2-4E9F-9538-4204BD2B6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BDA6B-297F-43F3-BF77-B744C4C87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1B798-B781-461E-B673-5E1CA2089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1A843-921E-48A1-9FFD-B31FB1E87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5B679-89AE-461B-8629-FED9A1BB1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CE8BA-CAB1-44EA-BB22-F795B19C9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C9809-2531-4702-8AA7-51647F253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2BE17-6F78-483A-85B9-9D95684CA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6FB5A-B461-4C1B-ABB6-B75F262A3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19BCF-B41A-463D-81E8-C9E5D7032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D7AA2-664C-4B12-8041-89946D404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0C9BE-3788-4D95-8B50-D9EF957D8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8DA78-AE05-42B8-9569-EA2FA4837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CEEEB-39A0-4B47-A9FC-CE51327D1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1DBB6-8492-4668-B409-8F74434E7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1C311-453D-4EBC-88CE-0161B7A82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D058B-7C67-4A2A-973F-F8DE6F77F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413F-A83D-4E75-9E4C-419E9A3F7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FB1D-1032-488F-BFA7-359D56AE8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E25CB-8652-481F-A3EA-67D1BAAE3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7243D-95D0-4347-9E1B-D7B622EC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BEEA5-091C-4FC5-8096-37F0B132D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5820-F881-4FBE-B541-2C2AB9DF6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0BAAC-65DE-4073-9A70-94BC5A691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B376-365E-4937-A9E4-9F87775A889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2CFD-74AA-4AFE-901B-499A0272955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5 </a:t>
            </a:r>
            <a:r>
              <a:rPr b="1" lang="en-US" sz="2800" spc="-1" strike="noStrike">
                <a:solidFill>
                  <a:srgbClr val="003366"/>
                </a:solidFill>
                <a:latin typeface="Arial"/>
              </a:rPr>
              <a:t>— </a:t>
            </a:r>
            <a:r>
              <a:rPr b="1" lang="en-US" sz="3200" spc="-1" strike="noStrike">
                <a:solidFill>
                  <a:srgbClr val="003366"/>
                </a:solidFill>
                <a:latin typeface="Arial"/>
              </a:rPr>
              <a:t>Essential Computer Skil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428640" y="2927160"/>
            <a:ext cx="5257800" cy="13395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Storage Media</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rly personal computers used floppy disks to store data and progra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had to format floppy disks before you could use them.</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w most storage media is preformatted and ready to use.</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ever need to format a floppy disk, it is a simple process using My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8140BA6-539C-4295-BFEE-59D899A96A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a Disk</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ting is the process of preparing a disk to hold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ting organizes a disk into tracks and sectors.</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track is a narrow band that forms a circle on the surface of the disk.</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sector is a pie-shaped area that can hold 512 bytes of data.</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C24A239-180B-49B5-AC5A-257CD48F5D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a Disk (cont.)</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ormat a disk, any data previously stored on the disk is destroy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track on a disk is numbered and labeled in the formatting pro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ile allocation table (FAT) on the disk logs the information about each trac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8786FC2-F1FE-491A-9918-37C4AAF63E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ning a Window</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open a window by double-clicking an ic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execute a command and open a window on the deskt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to open the Recycle Bin, find the icon on the desktop and double-click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26A8058-9261-49D1-B364-7CBD66272F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cycle Bin Window</a:t>
            </a:r>
            <a:endParaRPr b="1" lang="en-US" sz="3600" spc="-1" strike="noStrike">
              <a:solidFill>
                <a:srgbClr val="006666"/>
              </a:solidFill>
              <a:latin typeface="Arial"/>
            </a:endParaRPr>
          </a:p>
        </p:txBody>
      </p:sp>
      <p:pic>
        <p:nvPicPr>
          <p:cNvPr id="128" name="" descr=""/>
          <p:cNvPicPr/>
          <p:nvPr/>
        </p:nvPicPr>
        <p:blipFill>
          <a:blip r:embed="rId1"/>
          <a:stretch/>
        </p:blipFill>
        <p:spPr>
          <a:xfrm>
            <a:off x="1828800" y="2514600"/>
            <a:ext cx="5699160" cy="3724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B961949-6AA8-4CF5-BAAD-98D3C3F9B7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rts of a Window</a:t>
            </a:r>
            <a:endParaRPr b="1" lang="en-US" sz="3600" spc="-1" strike="noStrike">
              <a:solidFill>
                <a:srgbClr val="006666"/>
              </a:solidFill>
              <a:latin typeface="Arial"/>
            </a:endParaRPr>
          </a:p>
        </p:txBody>
      </p:sp>
      <p:pic>
        <p:nvPicPr>
          <p:cNvPr id="130" name="" descr=""/>
          <p:cNvPicPr/>
          <p:nvPr/>
        </p:nvPicPr>
        <p:blipFill>
          <a:blip r:embed="rId1"/>
          <a:stretch/>
        </p:blipFill>
        <p:spPr>
          <a:xfrm>
            <a:off x="1981080" y="2362320"/>
            <a:ext cx="5532480" cy="3641760"/>
          </a:xfrm>
          <a:prstGeom prst="rect">
            <a:avLst/>
          </a:prstGeom>
          <a:ln w="0">
            <a:noFill/>
          </a:ln>
        </p:spPr>
      </p:pic>
      <p:sp>
        <p:nvSpPr>
          <p:cNvPr id="131" name=""/>
          <p:cNvSpPr/>
          <p:nvPr/>
        </p:nvSpPr>
        <p:spPr>
          <a:xfrm>
            <a:off x="764280" y="236232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32" name=""/>
          <p:cNvSpPr/>
          <p:nvPr/>
        </p:nvSpPr>
        <p:spPr>
          <a:xfrm>
            <a:off x="764640" y="2819520"/>
            <a:ext cx="75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r</a:t>
            </a:r>
            <a:endParaRPr b="0" lang="en-US" sz="1800" spc="-1" strike="noStrike">
              <a:solidFill>
                <a:srgbClr val="003366"/>
              </a:solidFill>
              <a:latin typeface="Arial"/>
            </a:endParaRPr>
          </a:p>
        </p:txBody>
      </p:sp>
      <p:sp>
        <p:nvSpPr>
          <p:cNvPr id="133" name=""/>
          <p:cNvSpPr/>
          <p:nvPr/>
        </p:nvSpPr>
        <p:spPr>
          <a:xfrm>
            <a:off x="7622640" y="25146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34" name=""/>
          <p:cNvSpPr/>
          <p:nvPr/>
        </p:nvSpPr>
        <p:spPr>
          <a:xfrm>
            <a:off x="7620120" y="3124080"/>
            <a:ext cx="73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uler</a:t>
            </a:r>
            <a:endParaRPr b="0" lang="en-US" sz="1800" spc="-1" strike="noStrike">
              <a:solidFill>
                <a:srgbClr val="003366"/>
              </a:solidFill>
              <a:latin typeface="Arial"/>
            </a:endParaRPr>
          </a:p>
        </p:txBody>
      </p:sp>
      <p:sp>
        <p:nvSpPr>
          <p:cNvPr id="135" name=""/>
          <p:cNvSpPr/>
          <p:nvPr/>
        </p:nvSpPr>
        <p:spPr>
          <a:xfrm>
            <a:off x="7622640" y="44197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roll bars</a:t>
            </a:r>
            <a:endParaRPr b="0" lang="en-US" sz="1800" spc="-1" strike="noStrike">
              <a:solidFill>
                <a:srgbClr val="003366"/>
              </a:solidFill>
              <a:latin typeface="Arial"/>
            </a:endParaRPr>
          </a:p>
        </p:txBody>
      </p:sp>
      <p:sp>
        <p:nvSpPr>
          <p:cNvPr id="136" name=""/>
          <p:cNvSpPr/>
          <p:nvPr/>
        </p:nvSpPr>
        <p:spPr>
          <a:xfrm>
            <a:off x="764640" y="4419720"/>
            <a:ext cx="12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cumen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indow</a:t>
            </a:r>
            <a:endParaRPr b="0" lang="en-US" sz="1800" spc="-1" strike="noStrike">
              <a:solidFill>
                <a:srgbClr val="003366"/>
              </a:solidFill>
              <a:latin typeface="Arial"/>
            </a:endParaRPr>
          </a:p>
        </p:txBody>
      </p:sp>
      <p:sp>
        <p:nvSpPr>
          <p:cNvPr id="137" name=""/>
          <p:cNvSpPr/>
          <p:nvPr/>
        </p:nvSpPr>
        <p:spPr>
          <a:xfrm flipV="1">
            <a:off x="1676520" y="2514600"/>
            <a:ext cx="304560" cy="76320"/>
          </a:xfrm>
          <a:prstGeom prst="line">
            <a:avLst/>
          </a:prstGeom>
          <a:ln w="1260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38" name=""/>
          <p:cNvSpPr/>
          <p:nvPr/>
        </p:nvSpPr>
        <p:spPr>
          <a:xfrm flipV="1">
            <a:off x="1447920" y="2666520"/>
            <a:ext cx="685800" cy="304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a:off x="1752480" y="4876920"/>
            <a:ext cx="152424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a:off x="6629040" y="2666880"/>
            <a:ext cx="1066680" cy="1526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flipH="1" flipV="1">
            <a:off x="7086240" y="3047760"/>
            <a:ext cx="609480" cy="2286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flipH="1" flipV="1">
            <a:off x="7391520" y="3733560"/>
            <a:ext cx="304560" cy="6858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flipH="1">
            <a:off x="6400800" y="4724280"/>
            <a:ext cx="1295280" cy="9907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1449720" y="6095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45" name=""/>
          <p:cNvSpPr/>
          <p:nvPr/>
        </p:nvSpPr>
        <p:spPr>
          <a:xfrm flipV="1">
            <a:off x="2666880" y="5943600"/>
            <a:ext cx="6098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778563C-F883-4F9F-9BA3-74E0E34C3E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flipH="1">
            <a:off x="6171840" y="4038480"/>
            <a:ext cx="1522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ipulating Windows</a:t>
            </a:r>
            <a:endParaRPr b="1" lang="en-US" sz="3600" spc="-1" strike="noStrike">
              <a:solidFill>
                <a:srgbClr val="006666"/>
              </a:solidFill>
              <a:latin typeface="Arial"/>
            </a:endParaRPr>
          </a:p>
        </p:txBody>
      </p:sp>
      <p:pic>
        <p:nvPicPr>
          <p:cNvPr id="148" name="" descr=""/>
          <p:cNvPicPr/>
          <p:nvPr/>
        </p:nvPicPr>
        <p:blipFill>
          <a:blip r:embed="rId1"/>
          <a:stretch/>
        </p:blipFill>
        <p:spPr>
          <a:xfrm>
            <a:off x="1676520" y="2666880"/>
            <a:ext cx="1981080" cy="698760"/>
          </a:xfrm>
          <a:prstGeom prst="rect">
            <a:avLst/>
          </a:prstGeom>
          <a:ln w="0">
            <a:noFill/>
          </a:ln>
        </p:spPr>
      </p:pic>
      <p:pic>
        <p:nvPicPr>
          <p:cNvPr id="149" name="" descr=""/>
          <p:cNvPicPr/>
          <p:nvPr/>
        </p:nvPicPr>
        <p:blipFill>
          <a:blip r:embed="rId2"/>
          <a:stretch/>
        </p:blipFill>
        <p:spPr>
          <a:xfrm>
            <a:off x="5257800" y="4724280"/>
            <a:ext cx="1905120" cy="684360"/>
          </a:xfrm>
          <a:prstGeom prst="rect">
            <a:avLst/>
          </a:prstGeom>
          <a:ln w="0">
            <a:noFill/>
          </a:ln>
        </p:spPr>
      </p:pic>
      <p:sp>
        <p:nvSpPr>
          <p:cNvPr id="150" name=""/>
          <p:cNvSpPr/>
          <p:nvPr/>
        </p:nvSpPr>
        <p:spPr>
          <a:xfrm>
            <a:off x="1219320" y="3809880"/>
            <a:ext cx="3200400" cy="22885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imize:</a:t>
            </a:r>
            <a:r>
              <a:rPr b="1" i="1" lang="en-US" sz="1800" spc="-1" strike="noStrike">
                <a:solidFill>
                  <a:srgbClr val="ffffff"/>
                </a:solidFill>
                <a:latin typeface="Arial"/>
              </a:rPr>
              <a:t> </a:t>
            </a:r>
            <a:r>
              <a:rPr b="0" lang="en-US" sz="1800" spc="-1" strike="noStrike">
                <a:solidFill>
                  <a:srgbClr val="ffffff"/>
                </a:solidFill>
                <a:latin typeface="Arial"/>
              </a:rPr>
              <a:t>Click the Maximize button and the window fills the full screen. The graphic on the Maximize button changes and it becomes the Restore Down button (shown at righ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
          <p:cNvSpPr/>
          <p:nvPr/>
        </p:nvSpPr>
        <p:spPr>
          <a:xfrm>
            <a:off x="4876920" y="2895480"/>
            <a:ext cx="281916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tore Down:</a:t>
            </a:r>
            <a:r>
              <a:rPr b="0" lang="en-US" sz="1800" spc="-1" strike="noStrike">
                <a:solidFill>
                  <a:srgbClr val="ffffff"/>
                </a:solidFill>
                <a:latin typeface="Arial"/>
              </a:rPr>
              <a:t> Click the Restore Down button to return the window to its previous size.</a:t>
            </a:r>
            <a:endParaRPr b="0" lang="en-US" sz="1800" spc="-1" strike="noStrike">
              <a:solidFill>
                <a:srgbClr val="003366"/>
              </a:solidFill>
              <a:latin typeface="Arial"/>
            </a:endParaRPr>
          </a:p>
        </p:txBody>
      </p:sp>
      <p:sp>
        <p:nvSpPr>
          <p:cNvPr id="152" name=""/>
          <p:cNvSpPr/>
          <p:nvPr/>
        </p:nvSpPr>
        <p:spPr>
          <a:xfrm flipV="1">
            <a:off x="2209680" y="3352680"/>
            <a:ext cx="3049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516DB7E7-9D69-4763-AB18-AB2CD23AB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ipulating Windows (cont.)</a:t>
            </a:r>
            <a:endParaRPr b="1" lang="en-US" sz="3600" spc="-1" strike="noStrike">
              <a:solidFill>
                <a:srgbClr val="006666"/>
              </a:solidFill>
              <a:latin typeface="Arial"/>
            </a:endParaRPr>
          </a:p>
        </p:txBody>
      </p:sp>
      <p:sp>
        <p:nvSpPr>
          <p:cNvPr id="154" name=""/>
          <p:cNvSpPr/>
          <p:nvPr/>
        </p:nvSpPr>
        <p:spPr>
          <a:xfrm>
            <a:off x="1371600" y="2743200"/>
            <a:ext cx="2895480" cy="3111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nimize:</a:t>
            </a:r>
            <a:r>
              <a:rPr b="1" i="1" lang="en-US" sz="1800" spc="-1" strike="noStrike">
                <a:solidFill>
                  <a:srgbClr val="ffffff"/>
                </a:solidFill>
                <a:latin typeface="Arial"/>
              </a:rPr>
              <a:t> </a:t>
            </a:r>
            <a:r>
              <a:rPr b="0" lang="en-US" sz="1800" spc="-1" strike="noStrike">
                <a:solidFill>
                  <a:srgbClr val="ffffff"/>
                </a:solidFill>
                <a:latin typeface="Arial"/>
              </a:rPr>
              <a:t> Click the Minimize button and the window disappears from the screen and is displayed as a button on the </a:t>
            </a:r>
            <a:r>
              <a:rPr b="0" i="1" lang="en-US" sz="1800" spc="-1" strike="noStrike">
                <a:solidFill>
                  <a:srgbClr val="ffffff"/>
                </a:solidFill>
                <a:latin typeface="Arial"/>
              </a:rPr>
              <a:t>taskbar</a:t>
            </a:r>
            <a:r>
              <a:rPr b="0" lang="en-US" sz="1800" spc="-1" strike="noStrike">
                <a:solidFill>
                  <a:srgbClr val="ffffff"/>
                </a:solidFill>
                <a:latin typeface="Arial"/>
              </a:rPr>
              <a:t>, the horizontal bar at the bottom of monitor screen that appears to the right of the Start butto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55" name="" descr=""/>
          <p:cNvPicPr/>
          <p:nvPr/>
        </p:nvPicPr>
        <p:blipFill>
          <a:blip r:embed="rId1"/>
          <a:stretch/>
        </p:blipFill>
        <p:spPr>
          <a:xfrm>
            <a:off x="5105520" y="3581280"/>
            <a:ext cx="2286000" cy="804960"/>
          </a:xfrm>
          <a:prstGeom prst="rect">
            <a:avLst/>
          </a:prstGeom>
          <a:ln w="0">
            <a:noFill/>
          </a:ln>
        </p:spPr>
      </p:pic>
      <p:sp>
        <p:nvSpPr>
          <p:cNvPr id="156" name=""/>
          <p:cNvSpPr/>
          <p:nvPr/>
        </p:nvSpPr>
        <p:spPr>
          <a:xfrm>
            <a:off x="4267080" y="3276720"/>
            <a:ext cx="83844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B8AD9772-4A2B-40BA-BB1D-666D1FD376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ipulating Windows (cont.)</a:t>
            </a:r>
            <a:endParaRPr b="1" lang="en-US" sz="36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ove:</a:t>
            </a:r>
            <a:r>
              <a:rPr b="0" lang="en-US" sz="2500" spc="-1" strike="noStrike">
                <a:solidFill>
                  <a:srgbClr val="003366"/>
                </a:solidFill>
                <a:latin typeface="Arial"/>
              </a:rPr>
              <a:t> If you don’t like where the window is located on the screen, just move it. Move the mouse pointer over the title bar, hold down the button, and drag the window to its new location.</a:t>
            </a:r>
            <a:endParaRPr b="0" lang="en-US" sz="2500" spc="-1" strike="noStrike">
              <a:solidFill>
                <a:srgbClr val="003366"/>
              </a:solidFill>
              <a:latin typeface="Arial"/>
            </a:endParaRPr>
          </a:p>
          <a:p>
            <a:pPr marL="335880" indent="-3358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size:</a:t>
            </a:r>
            <a:r>
              <a:rPr b="1" i="1" lang="en-US" sz="2500" spc="-1" strike="noStrike">
                <a:solidFill>
                  <a:srgbClr val="003366"/>
                </a:solidFill>
                <a:latin typeface="Arial"/>
              </a:rPr>
              <a:t> </a:t>
            </a:r>
            <a:r>
              <a:rPr b="0" lang="en-US" sz="2500" spc="-1" strike="noStrike">
                <a:solidFill>
                  <a:srgbClr val="003366"/>
                </a:solidFill>
                <a:latin typeface="Arial"/>
              </a:rPr>
              <a:t>You can easily change the size of a window. Move the mouse pointer over an edge of the window; hold down the button and drag to make the window smaller or larger. You can change both the width and height of a window at the same time by dragging a corner.</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1A08BD0-0C59-4DC7-BCD8-A4BA1C4C11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osing a Window</a:t>
            </a: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lose a window, open the File menu and then click Clo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click the red Close button (the </a:t>
            </a:r>
            <a:r>
              <a:rPr b="1" lang="en-US" sz="2800" spc="-1" strike="noStrike">
                <a:solidFill>
                  <a:srgbClr val="003366"/>
                </a:solidFill>
                <a:latin typeface="Arial"/>
              </a:rPr>
              <a:t>X</a:t>
            </a:r>
            <a:r>
              <a:rPr b="0" lang="en-US" sz="2800" spc="-1" strike="noStrike">
                <a:solidFill>
                  <a:srgbClr val="003366"/>
                </a:solidFill>
                <a:latin typeface="Arial"/>
              </a:rPr>
              <a:t>) in the upper-right corner of the window.</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1" name="" descr=""/>
          <p:cNvPicPr/>
          <p:nvPr/>
        </p:nvPicPr>
        <p:blipFill>
          <a:blip r:embed="rId1"/>
          <a:stretch/>
        </p:blipFill>
        <p:spPr>
          <a:xfrm>
            <a:off x="5791320" y="4800600"/>
            <a:ext cx="2286000" cy="804960"/>
          </a:xfrm>
          <a:prstGeom prst="rect">
            <a:avLst/>
          </a:prstGeom>
          <a:ln w="0">
            <a:noFill/>
          </a:ln>
        </p:spPr>
      </p:pic>
      <p:sp>
        <p:nvSpPr>
          <p:cNvPr id="162" name=""/>
          <p:cNvSpPr/>
          <p:nvPr/>
        </p:nvSpPr>
        <p:spPr>
          <a:xfrm>
            <a:off x="6705720" y="3733920"/>
            <a:ext cx="914400" cy="10666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C3109D3-7BE7-43ED-ADAF-081019558E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and shut down a computer correc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storage media to safely store and access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and close a window.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he parts of a window.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E638912-B987-403F-A65F-6C17A5DB3D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Files and Folders</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use a computer, files begin to accumulate quick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folders to hold files of the same type, files for the same project, or files that are somehow rela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folders are similar to manila folders in a filing cabinet. They hold information about some particular subjec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658F005-00F9-4C8E-9EAA-357E173EE4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Files and Folders (cont.)</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folders inside of other folders, called </a:t>
            </a:r>
            <a:r>
              <a:rPr b="0" i="1" lang="en-US" sz="2800" spc="-1" strike="noStrike">
                <a:solidFill>
                  <a:srgbClr val="003366"/>
                </a:solidFill>
                <a:latin typeface="Arial"/>
              </a:rPr>
              <a:t>subfolders</a:t>
            </a:r>
            <a:r>
              <a:rPr b="0" lang="en-US" sz="2800" spc="-1" strike="noStrike">
                <a:solidFill>
                  <a:srgbClr val="003366"/>
                </a:solidFill>
                <a:latin typeface="Arial"/>
              </a:rPr>
              <a:t>, to further refine the type of information they cont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move or copy files from one folder or disk to another, but you cannot have more than one file with the same name in a fold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BD6E3D3-500B-49FA-8451-83BB4E30C3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 File</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s can be moved from one folder to another by using the Cut and Paste comman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lso click and drag a file from one location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ving a file removes the file from the original fold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B5628B-FC20-457B-87D5-064F941E18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pying a File</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s can be copied from one folder to another to create an exact duplicate of the original file in another lo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Copy and Paste commands to make a copy of a file in a new lo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right-click on a filename to open a shortcut menu that lists the Copy and Paste op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49CB431-0799-475B-B48D-4E8823A57F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 File</a:t>
            </a:r>
            <a:endParaRPr b="1" lang="en-US" sz="3600" spc="-1" strike="noStrike">
              <a:solidFill>
                <a:srgbClr val="006666"/>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s that are no longer needed can be deleted by selecting the file and clicking the Delete option from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right-click the filename and select Delete from the shortcut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delete a file, it is sent to the Recycle Bin. You can recover a file from the Recycle Bin if you have not “emptied” the bi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475E819-B420-493C-A1C4-F3B7DDF119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Files</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elect a group of adjacent files, click the first file to select it. Then hold down the Shift key and select the last file in the lis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elect a group of nonadjacent files, select the first file, hold down the Control key, and click the remaining filenames you want to select. All the selected files will be highlighte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AA757EC-6DA2-4DB3-8F9A-AF42C91900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a Program</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tart a program in Window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Start button on the taskbar at the bottom of the screen.</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int to All Program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int to the program menu that contains the program you want to star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on the program name from the program menu.</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BD36465-4C7A-4C25-BC62-8FD110AB2E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witching Between Windows</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84000"/>
          </a:bodyPr>
          <a:p>
            <a:pPr marL="288000" indent="-28800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switch between open windows by clicking in any part of the window visible on the desktop.</a:t>
            </a:r>
            <a:endParaRPr b="0" lang="en-US" sz="2500" spc="-1" strike="noStrike">
              <a:solidFill>
                <a:srgbClr val="003366"/>
              </a:solidFill>
              <a:latin typeface="Arial"/>
            </a:endParaRPr>
          </a:p>
          <a:p>
            <a:pPr marL="288000" indent="-28800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click the window’s button on the taskbar to switch to another window. All windows that are open on the desktop are represented by a button on the taskbar.</a:t>
            </a:r>
            <a:endParaRPr b="0" lang="en-US" sz="2500" spc="-1" strike="noStrike">
              <a:solidFill>
                <a:srgbClr val="003366"/>
              </a:solidFill>
              <a:latin typeface="Arial"/>
            </a:endParaRPr>
          </a:p>
          <a:p>
            <a:pPr marL="2880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79" name="" descr=""/>
          <p:cNvPicPr/>
          <p:nvPr/>
        </p:nvPicPr>
        <p:blipFill>
          <a:blip r:embed="rId1"/>
          <a:stretch/>
        </p:blipFill>
        <p:spPr>
          <a:xfrm>
            <a:off x="838080" y="4876920"/>
            <a:ext cx="7693200" cy="331560"/>
          </a:xfrm>
          <a:prstGeom prst="rect">
            <a:avLst/>
          </a:prstGeom>
          <a:ln w="0">
            <a:noFill/>
          </a:ln>
        </p:spPr>
      </p:pic>
      <p:sp>
        <p:nvSpPr>
          <p:cNvPr id="180" name=""/>
          <p:cNvSpPr/>
          <p:nvPr/>
        </p:nvSpPr>
        <p:spPr>
          <a:xfrm>
            <a:off x="1295280" y="5410080"/>
            <a:ext cx="198144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cycle Bin button on the taskbar</a:t>
            </a:r>
            <a:endParaRPr b="0" lang="en-US" sz="1800" spc="-1" strike="noStrike">
              <a:solidFill>
                <a:srgbClr val="003366"/>
              </a:solidFill>
              <a:latin typeface="Arial"/>
            </a:endParaRPr>
          </a:p>
        </p:txBody>
      </p:sp>
      <p:sp>
        <p:nvSpPr>
          <p:cNvPr id="181" name=""/>
          <p:cNvSpPr/>
          <p:nvPr/>
        </p:nvSpPr>
        <p:spPr>
          <a:xfrm flipV="1">
            <a:off x="2209680" y="5257440"/>
            <a:ext cx="1526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BE4A4AA-87C4-4D31-8B01-E757D04C5F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witching Between Windows (cont.)</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have more than one window open at the same time, only one window is a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tle bar of the active window in your screen has a title in dark or bright letter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open windows in the same screen will have shaded titl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A38AB23-5683-4237-9506-0D5AB9B180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iting a Program</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it a program by closing the program window:</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Close button in the upper-right corner of the window.</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select Close from the program menu. (Click the icon to the left of the File menu to open the program menu.)</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select Exit from the File menu.</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87C923D-3500-4749-8C4D-955A8E50FD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to change the size of a window and switch between open window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nd manage files and fol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and exit a softwar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all new software.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B57B2D2-7B90-4D73-98BD-9CD84B05C8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alling New Software</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good idea to close any open programs before installing new softw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the new software disk in the appropriate dr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 the file called Setup or Install on the disk and double-click the filename to launch it, if necessary. (The file may open automatically if the new program is on a CD.)</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154D82D-ABB9-43B0-89F4-6F57728B07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alling New Software (cont.)</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Installation Wizard will prepare to install the new software:</a:t>
            </a:r>
            <a:endParaRPr b="0" lang="en-US" sz="26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lick Yes or Accept to accept the license agreement.</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Follow the steps in the Installation Wizard to install the program.</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You may need to reboot the computer before the program will be available.</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Register new software to take advantage of technical support and upgrades offered by the software company.</a:t>
            </a: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7082BA0-4354-4616-8974-25615802EF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Upgrades</a:t>
            </a:r>
            <a:endParaRPr b="1" lang="en-US" sz="3600" spc="-1" strike="noStrike">
              <a:solidFill>
                <a:srgbClr val="006666"/>
              </a:solidFill>
              <a:latin typeface="Arial"/>
            </a:endParaRPr>
          </a:p>
        </p:txBody>
      </p:sp>
      <p:sp>
        <p:nvSpPr>
          <p:cNvPr id="19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enefi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x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new featu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program compatible with new hardware or newer operating system</a:t>
            </a:r>
            <a:endParaRPr b="0" lang="en-US" sz="2800" spc="-1" strike="noStrike">
              <a:solidFill>
                <a:srgbClr val="003366"/>
              </a:solidFill>
              <a:latin typeface="Arial"/>
            </a:endParaRPr>
          </a:p>
        </p:txBody>
      </p:sp>
      <p:sp>
        <p:nvSpPr>
          <p:cNvPr id="192"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isadvantage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atibility problem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s with other software</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grades may not yet have problems or bugs worked ou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9E128A1-66BE-4061-9F23-54DE47F51F7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turn on your computer, the operating system performs all the necessary startup tasks automatically. </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of the components of a GUI are the desktop, icons, pointer, pointing device, menus, scroll bar, and windows.</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ktop is a representation of how people work at a desk and contains windows and icon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938B9ED-6928-4536-B07A-CD314AA919D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hut down the computer using the operating system’s Shut Down or Turn Off Computer command to prevent damage to components, software, and data.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rmatting is the process of preparing a disk so it can be used to write data to and read data from the disk. Most disk media today are preformatted, but you can reformat a disk to erase all of the information on it.</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EEB1A3F-F1BD-4350-B8D2-C6A630FBBC0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or double-click an icon to open a window.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move a window, resize it, maximize it, minimize it, or restore it to its original siz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ose a window by clicking the Close button at the upper-right corner of the scree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F8FCBD6-F908-4239-A67F-5858221A1B9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folders to organize your fi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lete folders and files by right-clicking on the folder or filename and using the shortcut menu’s Delete command or by dragging it to the Recycle B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move a file, it is moved to a new loc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FE5DA23-4E80-4E70-8484-744A0C23AAE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opy a file, you create a duplicate of your original file in another loc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elect, move, copy, or delete a group of adjacent or nonadjacent files and folder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tart a software program by clicking on its name in the All Programs list on the Start menu.</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786DEC2-9EFB-4B36-B0F3-FD29FCEA88C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have several windows and/or programs open at one time and switch between open window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tle bar of the active window in your screen has a title in dark or bright lettering; other open windows in the same screen will have shaded titl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1CB9E1F-85F9-4DDC-9DA7-2370649FE76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tall new software, you start the Install or Setup file and follow the instructions in the Installation wizar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good idea to register new software to take advantage of the technical support and upgrades offered by the software company.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F04B9E1-8B6E-469C-A6CA-22B9F11189A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esktop</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lde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Icon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ximiz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enu</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enu 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inimize</a:t>
            </a:r>
            <a:endParaRPr b="0" lang="en-US" sz="25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inting devi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stor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croll 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ask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itle 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ol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indow</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UI</a:t>
            </a:r>
            <a:endParaRPr b="0" lang="en-US" sz="25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C64F3F4C-A178-455A-A924-6458882DF98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upgrades can offer new features and fix bugs, but some upgrades may also cause compatibility problems or might be released before they are problem-free.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82562F6-5A5D-48E0-BD97-51B15B960AD1}"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the Computer</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ing a computer is simple. Just turn it on and wait for the operating system to do all the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will run a self test and then load the operating system softw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GUI (Graphical User Interface) is up, you will be looking at the desktop.</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0D33822-157D-4355-9A8E-2D9FB79E18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UI Termin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sktop:</a:t>
            </a:r>
            <a:r>
              <a:rPr b="0" lang="en-US" sz="2800" spc="-1" strike="noStrike">
                <a:solidFill>
                  <a:srgbClr val="003366"/>
                </a:solidFill>
                <a:latin typeface="Arial"/>
              </a:rPr>
              <a:t> The first screen you see when the computer starts up</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cons:</a:t>
            </a:r>
            <a:r>
              <a:rPr b="0" lang="en-US" sz="2800" spc="-1" strike="noStrike">
                <a:solidFill>
                  <a:srgbClr val="003366"/>
                </a:solidFill>
                <a:latin typeface="Arial"/>
              </a:rPr>
              <a:t> Small pictures that represent files, commands, or other function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inter:</a:t>
            </a:r>
            <a:r>
              <a:rPr b="0" lang="en-US" sz="2800" spc="-1" strike="noStrike">
                <a:solidFill>
                  <a:srgbClr val="003366"/>
                </a:solidFill>
                <a:latin typeface="Arial"/>
              </a:rPr>
              <a:t> An on-screen symbol showing the current position of the mouse</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inting Device:</a:t>
            </a:r>
            <a:r>
              <a:rPr b="0" lang="en-US" sz="2800" spc="-1" strike="noStrike">
                <a:solidFill>
                  <a:srgbClr val="003366"/>
                </a:solidFill>
                <a:latin typeface="Arial"/>
              </a:rPr>
              <a:t> A mouse or trackball used to select objects, such as icons or tex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B694C19-FA4D-4FF8-B58D-A7D04289AC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UI Terminology (cont.)</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nus:</a:t>
            </a:r>
            <a:r>
              <a:rPr b="0" lang="en-US" sz="2800" spc="-1" strike="noStrike">
                <a:solidFill>
                  <a:srgbClr val="003366"/>
                </a:solidFill>
                <a:latin typeface="Arial"/>
              </a:rPr>
              <a:t> Drop-down lists containing commands that can be execu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croll bars:</a:t>
            </a:r>
            <a:r>
              <a:rPr b="0" lang="en-US" sz="2800" spc="-1" strike="noStrike">
                <a:solidFill>
                  <a:srgbClr val="003366"/>
                </a:solidFill>
                <a:latin typeface="Arial"/>
              </a:rPr>
              <a:t> Horizontal and vertical bars that allow you to see parts of the display not currently visi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indow:</a:t>
            </a:r>
            <a:r>
              <a:rPr b="0" lang="en-US" sz="2800" spc="-1" strike="noStrike">
                <a:solidFill>
                  <a:srgbClr val="003366"/>
                </a:solidFill>
                <a:latin typeface="Arial"/>
              </a:rPr>
              <a:t> A rectangular area used to display a program, message, or data</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C2FFC60-9682-4DA1-B91C-4830A291F1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Desktop</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ktop contains windows and ic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represents graphically how a person works at a desk, with documents, files, and folders that can be put away in a file cabi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ktop helps you stay organized when you use a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200D6B3-5D19-4C30-B797-772B01C18F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hutting Down the Computer</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3810240" cy="3724200"/>
          </a:xfrm>
          <a:prstGeom prst="rect">
            <a:avLst/>
          </a:prstGeom>
          <a:noFill/>
          <a:ln w="0">
            <a:noFill/>
          </a:ln>
        </p:spPr>
        <p:txBody>
          <a:bodyPr lIns="90000" rIns="90000" tIns="46800" bIns="46800" anchor="t">
            <a:normAutofit fontScale="94000"/>
          </a:bodyPr>
          <a:p>
            <a:pPr marL="322200" indent="-32220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ut down your computer properly to prevent damage to the system.</a:t>
            </a:r>
            <a:endParaRPr b="0" lang="en-US" sz="2400" spc="-1" strike="noStrike">
              <a:solidFill>
                <a:srgbClr val="003366"/>
              </a:solidFill>
              <a:latin typeface="Arial"/>
            </a:endParaRPr>
          </a:p>
          <a:p>
            <a:pPr marL="322200" indent="-32220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Windows XP, you turn off the computer by clicking the Start button and then selecting Turn Off Computer or Shut Down at the bottom of the Start menu.</a:t>
            </a:r>
            <a:endParaRPr b="0" lang="en-US" sz="2400" spc="-1" strike="noStrike">
              <a:solidFill>
                <a:srgbClr val="003366"/>
              </a:solidFill>
              <a:latin typeface="Arial"/>
            </a:endParaRPr>
          </a:p>
        </p:txBody>
      </p:sp>
      <p:pic>
        <p:nvPicPr>
          <p:cNvPr id="114" name="" descr=""/>
          <p:cNvPicPr/>
          <p:nvPr/>
        </p:nvPicPr>
        <p:blipFill>
          <a:blip r:embed="rId1"/>
          <a:stretch/>
        </p:blipFill>
        <p:spPr>
          <a:xfrm>
            <a:off x="5029200" y="2514600"/>
            <a:ext cx="3164040" cy="2259000"/>
          </a:xfrm>
          <a:prstGeom prst="rect">
            <a:avLst/>
          </a:prstGeom>
          <a:ln w="0">
            <a:noFill/>
          </a:ln>
        </p:spPr>
      </p:pic>
      <p:sp>
        <p:nvSpPr>
          <p:cNvPr id="115" name=""/>
          <p:cNvSpPr/>
          <p:nvPr/>
        </p:nvSpPr>
        <p:spPr>
          <a:xfrm>
            <a:off x="5029200" y="5105520"/>
            <a:ext cx="3276720" cy="110808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ptions in the Turn off computer box include Stand By, Turn Off, and Restar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 name=""/>
          <p:cNvSpPr/>
          <p:nvPr/>
        </p:nvSpPr>
        <p:spPr>
          <a:xfrm flipH="1" flipV="1">
            <a:off x="5486400" y="4114800"/>
            <a:ext cx="380880" cy="99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V="1">
            <a:off x="6400800" y="419112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flipV="1">
            <a:off x="6781680" y="4114800"/>
            <a:ext cx="457200" cy="99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2F7DD8A-5225-4CE7-A390-F42A556A17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8-11-19T21:17:56Z</dcterms:modified>
  <cp:revision>45</cp:revision>
  <dc:subject/>
  <dc:title>kjjhghgff</dc:title>
</cp:coreProperties>
</file>